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269-8BCC-4045-9FDA-DA511DA6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2C3-89A1-4282-B416-587DF24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E9D-E9F6-4237-896E-3CA59525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39D-522D-4D4D-B6B8-B2DF2F88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05E-8DD3-4ECA-953B-B926DF50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ACC-726A-49A1-9260-4A6791E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F9E-A625-4995-931D-C7E9324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5F6-71E0-4087-9780-D8D4E566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621-43EB-441C-A637-25B930CE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5B4-3954-45F6-8E64-21A3C10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B6D-6330-415C-8A41-7B0C5CA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B60-6114-46A0-A332-A6E96DC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E93-5F56-41D4-A9A5-FB7868AB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ture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ystems &amp;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 Wee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– Half Clas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– Quiz, Journal, &amp; Mini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Tuesday, Friday – “Regular”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ame the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a an activity using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Terry, Sean J. (ASD-E)</cp:lastModifiedBy>
  <dcterms:modified xsi:type="dcterms:W3CDTF">2016-01-24T19:30:16Z</dcterms:modified>
  <cp:revision>28</cp:revision>
  <dc:subject/>
  <dc:title>Slide 1</dc:title>
</cp:coreProperties>
</file>